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02E-0ACF-4441-B0B2-DC5A15D2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E13-A360-4ABA-906D-5212C876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FC7-8018-46AA-A2C6-5951656D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3D7-8985-4624-90F9-53D6F92A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422-713C-4AB0-A210-2BA990E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B45-3391-4EDA-AB07-867E3AD7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100-A870-455F-A4B8-FADF9BC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F72-4467-4BCF-A7EC-ACAE62A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0D6-C38B-4DF8-8275-31C4B75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138-5687-45DE-AA8B-8B35094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4D9-229F-470A-BF7D-0DCA44B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B2C-DB14-413D-B5D1-3FF6CCC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7622-4C68-4DC4-9C85-8DEDF3951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828800"/>
            <a:ext cx="1524240" cy="1371600"/>
          </a:xfrm>
          <a:prstGeom prst="hexagon">
            <a:avLst>
              <a:gd name="adj" fmla="val 20451"/>
              <a:gd name="vf" fmla="val 11547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39625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3) Make/check ddscat.par file in “spheres_website”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3505320"/>
            <a:ext cx="22096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4) Make/check gold.tab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34340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5) In the terminal, run ddscat by typing ./ddscat7.1/src/dds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609840" cy="6098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2120" y="1838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6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6800" y="1981080"/>
            <a:ext cx="277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_eff = 3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ipole spacing (d) = 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avelength of interest = 450  to 6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0 = IWRP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3.00e-3 = G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0560" y="380988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reate a file with the dielectrics of 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9360"/>
            <a:ext cx="396252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) Compile the source in spheres_website/ddscat7.1/src/ : by typing 1) “make clean” and 2) “make all” in your terminal (cygwin/linu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9625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) Extract and go to “spheres_website”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0"/>
            <a:ext cx="533160" cy="5943600"/>
          </a:xfrm>
          <a:custGeom>
            <a:avLst/>
            <a:gdLst>
              <a:gd name="textAreaLeft" fmla="*/ 0 w 533160"/>
              <a:gd name="textAreaRight" fmla="*/ 192600 w 53316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8400" y="236232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nd the peak wavelength of scattering/exti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87692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6) Delete *.avg files they are of no use in our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518080"/>
            <a:ext cx="31240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7) Rename “qtable” to “scat_and_abs.dat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xamine “scat_and_abs.dat” file for the peak extinction/scatte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5680" y="304812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90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63720" y="282888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62120"/>
            <a:ext cx="39625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) Make/check ddscat.par file in “spheres_website”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1371600"/>
            <a:ext cx="22096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2) Make/check gold.tab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3) Run ddscat by typing ./ddscat7.1/src/dds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6160" y="685800"/>
            <a:ext cx="453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verything same as in previous page bu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avelength of interest = peak extinction wavelength (0.512 micron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 = IWRP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70560" y="167652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reate a file with the dielectrics of 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0"/>
            <a:ext cx="533520" cy="5943600"/>
          </a:xfrm>
          <a:custGeom>
            <a:avLst/>
            <a:gdLst>
              <a:gd name="textAreaLeft" fmla="*/ 0 w 533520"/>
              <a:gd name="textAreaRight" fmla="*/ 192600 w 53352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05000" y="2286000"/>
            <a:ext cx="190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lculate polarization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or electric field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1952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4) Delete all avg, qtable,qtable2,mtable files for cleaning up. They are of no use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657600"/>
            <a:ext cx="22096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5) Make/check ddfield.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" y="3962520"/>
            <a:ext cx="74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his file has x,y,z values defining a region of xrange= [-50,50] and yrange=[-50,50] for every 1d (2 nm), so n=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19720"/>
            <a:ext cx="312408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6) Run ddscat by typing ./ddscat7.1/src/ddfield.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his cre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25780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7) Run ddscat by typing ./ddscat7.1/src/ddfield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867280"/>
            <a:ext cx="31240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8) To visualize the fields, run matlab_plotter.m in mat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9000" y="366696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fine a x,y plan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492960"/>
            <a:ext cx="31240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9) Check for efield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0:16:38Z</dcterms:created>
  <dc:creator>bxj139</dc:creator>
  <dc:description/>
  <dc:language>en-US</dc:language>
  <cp:lastModifiedBy>bxj139</cp:lastModifiedBy>
  <dcterms:modified xsi:type="dcterms:W3CDTF">2010-09-26T03:59:07Z</dcterms:modified>
  <cp:revision>10</cp:revision>
  <dc:subject/>
  <dc:title>Slide 1</dc:title>
</cp:coreProperties>
</file>